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CCD4-5D6F-44D5-81A7-25FF0591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C0D6-8C55-4EA8-A5D2-95C35774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6EEF-70A8-4C91-BEB5-F57E7D12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6696-1D58-4685-A004-20BC7C05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8DCF-0D78-4AD2-9C74-5D76BA0E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708D-2D3B-4C72-A80A-14691878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EF0A-86D8-4623-8EDA-657C374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BD95-13B8-4E1B-89B1-37B29DFC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DCDA-541D-414A-917F-BFAB2F58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459A-F960-4F07-A27E-B5238C55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38F-8331-4AB8-9186-A24C561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3843-22EB-44AF-A7F4-34636462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6B74-C83C-4F78-BB3B-7FACAA8D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6C03-2857-4A99-821E-B82BC7D3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B4FD-614B-4621-9E3C-D1E176D9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78C5-A12E-4C6F-8DA6-CDCF6C67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A6AF-31CA-4002-B07F-317A53BF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E489F-5C9E-4073-A006-35077F18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6C28-1E1B-43E1-8F9F-AFA2B65F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363A-036F-496B-9A2B-B3D0CDDB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CF46-B363-41A4-9EC1-E7B52F71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2C6A4-B0B6-4AB3-8436-A6AABA02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2755-410B-4E9B-81AE-35193B6F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E58C-111A-4E5B-866D-84D0200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E3E9-A39A-43C9-9704-415058A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60F3-36CA-4178-8AD0-A5DFE31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5F17-9CFE-4270-A96D-B4B2B4F3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ECBF-EB83-4FB3-B792-B5FCFF17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F8181-E75C-4557-9902-F0FC48B7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CE5D-1DCF-4A37-A241-B5882B38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99385-64D9-4EFB-9543-6F3023A4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BE5C4-7202-4E28-BDCC-7CD236A5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E815-FCDF-4FF6-B2B3-4E799261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11B5-C790-4A0B-A18F-FECD385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15571-498D-4F8F-8F9C-4771A968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3795F-F313-4A7A-8877-6B51A20E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F2CE-D464-4B86-AA17-7B1A5871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0D6A0-9EC1-4307-B324-5E131CE0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DE1F-70A7-4485-B27F-9CB9A395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0166F-65B6-497F-B3D9-29205E5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EA4FF-CE18-46C6-8D5A-A3B5166F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978A-CA6F-4739-BEE6-51FF7927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8B7B-DE94-4F34-B360-0AAD1359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60BB-3CC7-4F78-B12F-1186F986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D944-8353-4572-9460-CB68A59D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61936-B6E1-4598-9BCD-0AA70C12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033EB-6173-4CA8-8D69-EF4539EF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F21F-672F-41BE-9727-D2721AD4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20FDF-8E79-4E60-AB7C-B6B8458B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720DA-0C7C-4B39-AD55-A9C4770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48B7-D136-4526-9286-3FEB74F2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9A8E-4802-499B-AF1A-08DF009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4B25A-FA49-4BA6-9379-6D0C1C7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5562E-BCEF-430C-B5BC-11B038E7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12E3-1B83-4AC8-A759-594ACB6C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C3CB-6BEF-433E-BE3E-A3988255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03639-5D4C-464D-9FB9-0B9EA834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9C873-61A5-4E5D-8BB5-FD0C07B0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8AD3-CA27-46C7-8D27-6498B31A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4D6ED-A66D-4768-9798-FF680CC3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12E37-223B-4BD8-9D3D-73048EAD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900AC-BE95-4D6E-AC7F-50FCF32B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94114-C636-496C-B560-F2325AF8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59E9F-5079-4B99-B67E-75DEA290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1984-65FF-4CF2-BD4C-44D0D639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34C28-AC8C-44BE-96A2-B78B23D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1CC1-918A-423B-8AB3-52F8D1B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3F00D-DE62-458D-9193-0E74B602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5D77A-271E-4CDA-8623-F15356C7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8A817-AC5B-4A18-9681-BE4CBC5A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EC4B1-6383-43D8-B708-AD3208D8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B83F-6FDA-4152-B3B4-683A5137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F1BA1-3D8A-4B52-ABED-ACFEEB5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61241-C0C4-4D9B-971F-2EBE29D2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B7C13-2EBC-4FE2-9C24-AEBA0B97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054C7-226A-4D8D-94CA-AA0E7A70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53A71-0BA9-4CD7-AD31-57CEB574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8E1A-335A-4B0A-BA29-9C56B063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34893-A497-479A-B2CB-F5FEB71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87564-429D-4D25-9C7C-3B5F83BF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CF344-EDED-4F8B-947A-071BA52A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E2127-0604-4755-825D-F940AC19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072E1-5AA3-4E3B-A925-8DC06658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B3F3C-9CE0-4486-BEC6-71D86CF9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402A4-C03E-440B-AB90-A1FC602D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7C1B0-EC98-40EE-BCFC-C3E6502C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2768A-8886-402E-B012-09EF53C7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5F577-F242-4B3B-A89E-0C4FEA9D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FD25-0F7A-412B-8056-7D5FC47B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C2136-A950-43C8-9B94-0415797C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A0A16-7E4E-4BA2-8C68-EA379454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7A902-ADAB-4487-8F24-6C95A0B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3D292-2199-4403-9F7D-17D43D6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E0722-FD7B-4435-8A18-25D7C9A7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BADB5-3D1C-47A4-BBF6-0D82805F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D93B3-0C07-48DD-A4BF-C5FAABBD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55FD20-A463-4A47-9FFF-AB65F2D947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B1940-D41C-4C6C-B262-C7FF4AE845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C91DC-2265-4D02-A52C-E902476D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6A2F0-0161-4179-92D6-2FED10B28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4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5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275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3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C3BD5-D38F-49FC-B29A-3BDCF29884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324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328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0F289-0AAB-462E-89F2-BABCF09FB0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0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25DAA-FBFF-4CA1-89D1-25F943576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2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D9BEA-0BAD-4559-B7F5-D6D1A2359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2.layoutsparks.com/1/214259/spring-flowers-pink-pretty-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2.layoutsparks.com/1/214259/spring-flowers-pink-pretty-1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La Mod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Tahoma"/>
              </a:rPr>
              <a:t>By: Hannah Abdou and Lindsay Na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El Oto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762760" y="5673600"/>
            <a:ext cx="75960" cy="11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Moda de Ni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638320" y="144756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Ana lleva un abrigo rosado, los pantalones negros y un rayas bolso rosado. Ella es muy boni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Isabella lleva un camisa azul y gris y los pantalones azules. Ella es 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mo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2743200" cy="41338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066680" y="601992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60199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ab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1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2362320" y="251460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l</a:t>
            </a:r>
            <a:r>
              <a:rPr b="0" lang="en-US" sz="9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nvier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2857680" cy="44766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37160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Robert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864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48320" y="106668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El muchacho es Roberto. Roberto lleva una camisa a cuadros blanca y amarilla y un su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é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00400" y="2286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1850f"/>
                </a:solidFill>
                <a:latin typeface="Tahoma"/>
              </a:rPr>
              <a:t>La Moda de n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3124080" y="29718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La primav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448920" cy="70581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380880" y="990720"/>
            <a:ext cx="3767400" cy="55432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666880" y="152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La moda de muj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5120" y="64911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B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0" y="106668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muchacha es Bella. Bella lleva un vestido rosado y rojo, una pulsera dorado y un collar blan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Vera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moda de homb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abriela lleva un vestido azul,amarillo,y anaranjado,los zapatos cafe, una pulsera negra,y un collar amarill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54:40Z</dcterms:created>
  <dc:creator>abdouhan</dc:creator>
  <dc:description/>
  <dc:language>en-US</dc:language>
  <cp:lastModifiedBy/>
  <dcterms:modified xsi:type="dcterms:W3CDTF">2011-12-15T20:16:14Z</dcterms:modified>
  <cp:revision>23</cp:revision>
  <dc:subject/>
  <dc:title>La Moda</dc:title>
</cp:coreProperties>
</file>